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974-3FAB-49FB-9530-2B6EA96D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F08-D670-4532-960E-55061229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4D8-98A3-4167-99E4-3C677508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034-9519-48A7-94E1-D00F3D0B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DB4-8644-4EBC-AD4E-69528FBA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F33-CDD3-4DCF-B217-0CF33A3F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45E-6414-442C-8A4B-8449D4E8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5AC-F5E1-49E7-892D-57D0B534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9E8-AE94-45A7-831E-E0F228A6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FCF-1579-4844-81B9-D061CAEB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C89-C139-4F10-AF91-69B86A5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EA9-0DB0-4623-925D-020EDAC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2D00-2134-4D23-AEBB-CEEF443209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C4A7-FA1C-49CD-A20D-EF48715CE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oon 3"/>
          <p:cNvSpPr/>
          <p:nvPr/>
        </p:nvSpPr>
        <p:spPr>
          <a:xfrm>
            <a:off x="304920" y="1295280"/>
            <a:ext cx="297180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5"/>
          <p:cNvSpPr/>
          <p:nvPr/>
        </p:nvSpPr>
        <p:spPr>
          <a:xfrm>
            <a:off x="1828800" y="3276720"/>
            <a:ext cx="632448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oon 6"/>
          <p:cNvSpPr/>
          <p:nvPr/>
        </p:nvSpPr>
        <p:spPr>
          <a:xfrm>
            <a:off x="8001000" y="2743200"/>
            <a:ext cx="7621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2133720" y="609480"/>
            <a:ext cx="1981080" cy="26784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200400" y="1522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mber Sense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Math their Way Assessment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 flipV="1">
            <a:off x="4648320" y="609120"/>
            <a:ext cx="1981080" cy="26672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5791320" y="152280"/>
            <a:ext cx="312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utational S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(origo or navigator screeners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6553080" y="579132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(MBSP, Origo, Navigator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373392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utational Fluency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MBP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5"/>
          <p:cNvSpPr/>
          <p:nvPr/>
        </p:nvSpPr>
        <p:spPr>
          <a:xfrm flipH="1" flipV="1">
            <a:off x="4724280" y="3276360"/>
            <a:ext cx="1447920" cy="25146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7391520" y="3352680"/>
            <a:ext cx="1371600" cy="24386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1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2"/>
          <p:cNvSpPr/>
          <p:nvPr/>
        </p:nvSpPr>
        <p:spPr>
          <a:xfrm>
            <a:off x="228600" y="51814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7"/>
          <p:cNvSpPr/>
          <p:nvPr/>
        </p:nvSpPr>
        <p:spPr>
          <a:xfrm>
            <a:off x="5335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6477120" y="8380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6172200" y="13716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5715000" y="19051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5410080" y="2438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4038480" y="6094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Forw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3886200" y="8380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-to-One Correspond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2743200" y="2438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ion of Obje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2438280" y="28954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l Recog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8"/>
          <p:cNvSpPr/>
          <p:nvPr/>
        </p:nvSpPr>
        <p:spPr>
          <a:xfrm>
            <a:off x="3048120" y="20574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ervation of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3581280" y="1295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nt Recog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0"/>
          <p:cNvSpPr/>
          <p:nvPr/>
        </p:nvSpPr>
        <p:spPr>
          <a:xfrm>
            <a:off x="3352680" y="1676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Backw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2362320" y="35053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2819520" y="40384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4"/>
          <p:cNvSpPr/>
          <p:nvPr/>
        </p:nvSpPr>
        <p:spPr>
          <a:xfrm>
            <a:off x="3352680" y="4495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3809880" y="5105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5181480" y="3505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7"/>
          <p:cNvSpPr/>
          <p:nvPr/>
        </p:nvSpPr>
        <p:spPr>
          <a:xfrm>
            <a:off x="5410080" y="3962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8"/>
          <p:cNvSpPr/>
          <p:nvPr/>
        </p:nvSpPr>
        <p:spPr>
          <a:xfrm>
            <a:off x="5638680" y="4419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9"/>
          <p:cNvSpPr/>
          <p:nvPr/>
        </p:nvSpPr>
        <p:spPr>
          <a:xfrm>
            <a:off x="5867280" y="48769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0"/>
          <p:cNvSpPr/>
          <p:nvPr/>
        </p:nvSpPr>
        <p:spPr>
          <a:xfrm>
            <a:off x="6172200" y="54100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2:32:23Z</dcterms:created>
  <dc:creator>Robert Frantum-Allen</dc:creator>
  <dc:description/>
  <dc:language>en-US</dc:language>
  <cp:lastModifiedBy>Jamie Spears</cp:lastModifiedBy>
  <dcterms:modified xsi:type="dcterms:W3CDTF">2012-04-08T17:24:04Z</dcterms:modified>
  <cp:revision>36</cp:revision>
  <dc:subject/>
  <dc:title>Slide 1</dc:title>
</cp:coreProperties>
</file>